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5.jpeg" ContentType="image/jpeg"/>
  <Override PartName="/ppt/media/image53.png" ContentType="image/png"/>
  <Override PartName="/ppt/media/image56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png" ContentType="image/png"/>
  <Override PartName="/ppt/media/image32.jpeg" ContentType="image/jpeg"/>
  <Override PartName="/ppt/media/image31.jpeg" ContentType="image/jpe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85.png" ContentType="image/png"/>
  <Override PartName="/ppt/media/image54.png" ContentType="image/png"/>
  <Override PartName="/ppt/media/image76.jpeg" ContentType="image/jpeg"/>
  <Override PartName="/ppt/media/image41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95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77.png" ContentType="image/png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6.jpeg" ContentType="image/jpeg"/>
  <Override PartName="/ppt/media/image69.png" ContentType="image/png"/>
  <Override PartName="/ppt/media/image67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93.jpeg" ContentType="image/jpeg"/>
  <Override PartName="/ppt/media/image91.png" ContentType="image/png"/>
  <Override PartName="/ppt/media/image12.png" ContentType="image/png"/>
  <Override PartName="/ppt/media/image94.jpeg" ContentType="image/jpeg"/>
  <Override PartName="/ppt/media/image74.jpeg" ContentType="image/jpeg"/>
  <Override PartName="/ppt/media/image96.jpeg" ContentType="image/jpeg"/>
  <Override PartName="/ppt/media/image92.jpeg" ContentType="image/jpeg"/>
  <Override PartName="/ppt/media/image49.png" ContentType="image/png"/>
  <Override PartName="/ppt/media/image65.jpeg" ContentType="image/jpeg"/>
  <Override PartName="/ppt/media/image75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43.jpeg" ContentType="image/jpeg"/>
  <Override PartName="/ppt/media/image80.jpeg" ContentType="image/jpeg"/>
  <Override PartName="/ppt/media/image21.jpeg" ContentType="image/jpeg"/>
  <Override PartName="/ppt/media/image36.gif" ContentType="image/gif"/>
  <Override PartName="/ppt/media/image6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88.jpeg" ContentType="image/jpeg"/>
  <Override PartName="/ppt/media/image29.jpeg" ContentType="image/jpeg"/>
  <Override PartName="/ppt/media/image52.jpeg" ContentType="image/jpeg"/>
  <Override PartName="/ppt/media/image2.jpeg" ContentType="image/jpeg"/>
  <Override PartName="/ppt/media/image13.jpeg" ContentType="image/jpeg"/>
  <Override PartName="/ppt/media/image4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EA85-1CF6-49F4-8E60-A0643FA35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F4D7-7C8A-4DE1-97F3-0D7E369F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D53-D4D0-4AE0-93B7-5972C4FD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2D4-E2B1-4AE8-B34F-AE2A6876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65A-926D-4AD2-944E-820884BF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8EA-2B2A-4ED1-B2D4-695AE3C3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658-E38F-4DA0-BBB9-E2A08B1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3DF-D26D-440A-BF2B-4B1438C2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10B-1FA8-4831-AA1A-4A1952FC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645-B681-4CBD-ABB9-C7CF6403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A90-99B1-4A18-8328-95A1A8B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69A-3324-43D6-94B6-792D7F22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4D3-57E1-4657-9E0F-4C61A375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370-3FD3-423E-A5CB-F4DD3DB1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60BF-EDF7-4C17-8850-CB8C0A3CB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4.xml"/><Relationship Id="rId4" Type="http://schemas.openxmlformats.org/officeDocument/2006/relationships/slide" Target="slide50.xml"/><Relationship Id="rId5" Type="http://schemas.openxmlformats.org/officeDocument/2006/relationships/slide" Target="slide66.xml"/><Relationship Id="rId6" Type="http://schemas.openxmlformats.org/officeDocument/2006/relationships/slide" Target="slide82.xml"/><Relationship Id="rId7" Type="http://schemas.openxmlformats.org/officeDocument/2006/relationships/slide" Target="slide98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4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5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www.securitypolicy.co.uk/riskanalysis/scales.jpg&amp;imgrefurl=http://www.securitypolicy.co.uk/riskanalysis/&amp;usg=__jsXAkC0W0tptUyEdO_-w4RO7xCM=&amp;h=537&amp;w=552&amp;sz=25&amp;hl=en&amp;start=6&amp;tbnid=DcrEwh7J7Ow6LM:&amp;tbnh=129&amp;tbnw=133&amp;prev=/images%3Fq%3DAnalysis%26gbv%3D2%26ndsp%3D20%26hl%3Den" TargetMode="External"/><Relationship Id="rId3" Type="http://schemas.openxmlformats.org/officeDocument/2006/relationships/image" Target="../media/image96.jpeg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chemweb.ucc.ie/ABCRF/images/Synthesis3.jpg&amp;imgrefurl=http://chemweb.ucc.ie/ABCRF/synthesis4.htm&amp;usg=__I_P6lsIf4lhy26LkmEi4vdgKKjc=&amp;h=1265&amp;w=600&amp;sz=107&amp;hl=en&amp;start=7&amp;tbnid=LpjBCViLCui88M:&amp;tbnh=150&amp;tbnw=71&amp;prev=/images%3Fq%3Dsynthesis%26gbv%3D2%26hl%3Den" TargetMode="External"/><Relationship Id="rId3" Type="http://schemas.openxmlformats.org/officeDocument/2006/relationships/image" Target="../media/image97.jpeg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dolphinsoftware.files.wordpress.com/2009/05/evaluation.jpg&amp;imgrefurl=http://dolphinsoftware.wordpress.com/2009/05/21/pricewaterhousecoopers-criteria-for-selecting-an-enterprise-contract-management-solution/&amp;usg=__jl8E-2NlW8cyfC9N6YZ6D6qmh4A=&amp;h=396&amp;w=350&amp;sz=24&amp;hl=en&amp;start=2&amp;tbnid=fQ1Vow7kUnd1PM:&amp;tbnh=124&amp;tbnw=110&amp;prev=/images%3Fq%3Devaluation%26gbv%3D2%26hl%3Den" TargetMode="External"/><Relationship Id="rId3" Type="http://schemas.openxmlformats.org/officeDocument/2006/relationships/image" Target="../media/image98.jpeg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100.xml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99.xml"/><Relationship Id="rId18" Type="http://schemas.openxmlformats.org/officeDocument/2006/relationships/slide" Target="slide105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2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5.xml"/><Relationship Id="rId13" Type="http://schemas.openxmlformats.org/officeDocument/2006/relationships/slide" Target="slide46.xml"/><Relationship Id="rId14" Type="http://schemas.openxmlformats.org/officeDocument/2006/relationships/slide" Target="slide47.xml"/><Relationship Id="rId15" Type="http://schemas.openxmlformats.org/officeDocument/2006/relationships/slide" Target="slide48.xml"/><Relationship Id="rId16" Type="http://schemas.openxmlformats.org/officeDocument/2006/relationships/slide" Target="slide49.xml"/><Relationship Id="rId17" Type="http://schemas.openxmlformats.org/officeDocument/2006/relationships/slide" Target="slide101.xml"/><Relationship Id="rId1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4.xml"/><Relationship Id="rId6" Type="http://schemas.openxmlformats.org/officeDocument/2006/relationships/slide" Target="slide55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" Target="slide58.xml"/><Relationship Id="rId10" Type="http://schemas.openxmlformats.org/officeDocument/2006/relationships/slide" Target="slide59.xml"/><Relationship Id="rId11" Type="http://schemas.openxmlformats.org/officeDocument/2006/relationships/slide" Target="slide60.xml"/><Relationship Id="rId12" Type="http://schemas.openxmlformats.org/officeDocument/2006/relationships/slide" Target="slide61.xml"/><Relationship Id="rId13" Type="http://schemas.openxmlformats.org/officeDocument/2006/relationships/slide" Target="slide62.xml"/><Relationship Id="rId14" Type="http://schemas.openxmlformats.org/officeDocument/2006/relationships/slide" Target="slide63.xml"/><Relationship Id="rId15" Type="http://schemas.openxmlformats.org/officeDocument/2006/relationships/slide" Target="slide64.xml"/><Relationship Id="rId16" Type="http://schemas.openxmlformats.org/officeDocument/2006/relationships/slide" Target="slide65.xml"/><Relationship Id="rId17" Type="http://schemas.openxmlformats.org/officeDocument/2006/relationships/slide" Target="slide102.xml"/><Relationship Id="rId1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photoindustrie-verband.de/img/dq/DQ-Tool_Contrast_e.jpg&amp;imgrefurl=http://www.photoindustrie-verband.de/en/archiv/druckparser.php%3Fpars%3Ddq.htm&amp;usg=__H6Wo9aHGLxkhex_S6RzK76VhApU=&amp;h=768&amp;w=1024&amp;sz=103&amp;hl=en&amp;start=1&amp;tbnid=2d6QnocVM6z8-M:&amp;tbnh=113&amp;tbnw=150&amp;prev=/images%3Fq%3Dcontrast%26gbv%3D2%26hl%3Den" TargetMode="External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slide" Target="slide70.xml"/><Relationship Id="rId6" Type="http://schemas.openxmlformats.org/officeDocument/2006/relationships/slide" Target="slide71.xml"/><Relationship Id="rId7" Type="http://schemas.openxmlformats.org/officeDocument/2006/relationships/slide" Target="slide72.xml"/><Relationship Id="rId8" Type="http://schemas.openxmlformats.org/officeDocument/2006/relationships/slide" Target="slide73.xml"/><Relationship Id="rId9" Type="http://schemas.openxmlformats.org/officeDocument/2006/relationships/slide" Target="slide74.xml"/><Relationship Id="rId10" Type="http://schemas.openxmlformats.org/officeDocument/2006/relationships/slide" Target="slide75.xml"/><Relationship Id="rId11" Type="http://schemas.openxmlformats.org/officeDocument/2006/relationships/slide" Target="slide76.xml"/><Relationship Id="rId12" Type="http://schemas.openxmlformats.org/officeDocument/2006/relationships/slide" Target="slide77.xml"/><Relationship Id="rId13" Type="http://schemas.openxmlformats.org/officeDocument/2006/relationships/slide" Target="slide78.xml"/><Relationship Id="rId14" Type="http://schemas.openxmlformats.org/officeDocument/2006/relationships/slide" Target="slide79.xml"/><Relationship Id="rId15" Type="http://schemas.openxmlformats.org/officeDocument/2006/relationships/slide" Target="slide80.xml"/><Relationship Id="rId16" Type="http://schemas.openxmlformats.org/officeDocument/2006/relationships/slide" Target="slide81.xml"/><Relationship Id="rId17" Type="http://schemas.openxmlformats.org/officeDocument/2006/relationships/slide" Target="slide103.xml"/><Relationship Id="rId1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cademic.brooklyn.cuny.edu/geology/leveson/core/graphics/nyc_mins2/qmarks.gif&amp;imgrefurl=http://academic.brooklyn.cuny.edu/geology/leveson/core/graphics/nyc_mins2/hyp_choose.html&amp;usg=__UB17EsBQ7DCiv-9x6npdrKgpKpg=&amp;h=1000&amp;w=300&amp;sz=5&amp;hl=en&amp;start=2&amp;tbnid=w4NiTouVXYJ22M:&amp;tbnh=149&amp;tbnw=45&amp;prev=/images%3Fq%3Dhypothesis%26gbv%3D2%26hl%3Den" TargetMode="External"/><Relationship Id="rId2" Type="http://schemas.openxmlformats.org/officeDocument/2006/relationships/image" Target="../media/image68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sf.be/images/uploads/Image/ASF%2520en%2520action/organiser_evenement.jpg&amp;imgrefurl=http://www.asf.be/index.php%3Fmodule%3Dhoehelpen%26lang%3Den%26id%3D163&amp;usg=__zmUXBRHPcHq8LfjZGUz45HJ5hRE=&amp;h=1377&amp;w=1916&amp;sz=576&amp;hl=en&amp;start=10&amp;tbnid=AgUl-NjROH_GUM:&amp;tbnh=108&amp;tbnw=150&amp;prev=/images%3Fq%3Dorganise%26gbv%3D2%26hl%3Den" TargetMode="External"/><Relationship Id="rId2" Type="http://schemas.openxmlformats.org/officeDocument/2006/relationships/image" Target="../media/image71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7.xml"/><Relationship Id="rId7" Type="http://schemas.openxmlformats.org/officeDocument/2006/relationships/slide" Target="slide88.xml"/><Relationship Id="rId8" Type="http://schemas.openxmlformats.org/officeDocument/2006/relationships/slide" Target="slide89.xml"/><Relationship Id="rId9" Type="http://schemas.openxmlformats.org/officeDocument/2006/relationships/slide" Target="slide90.xml"/><Relationship Id="rId10" Type="http://schemas.openxmlformats.org/officeDocument/2006/relationships/slide" Target="slide91.xml"/><Relationship Id="rId11" Type="http://schemas.openxmlformats.org/officeDocument/2006/relationships/slide" Target="slide92.xml"/><Relationship Id="rId12" Type="http://schemas.openxmlformats.org/officeDocument/2006/relationships/slide" Target="slide93.xml"/><Relationship Id="rId13" Type="http://schemas.openxmlformats.org/officeDocument/2006/relationships/slide" Target="slide94.xml"/><Relationship Id="rId14" Type="http://schemas.openxmlformats.org/officeDocument/2006/relationships/slide" Target="slide95.xml"/><Relationship Id="rId15" Type="http://schemas.openxmlformats.org/officeDocument/2006/relationships/slide" Target="slide96.xml"/><Relationship Id="rId16" Type="http://schemas.openxmlformats.org/officeDocument/2006/relationships/slide" Target="slide97.xml"/><Relationship Id="rId17" Type="http://schemas.openxmlformats.org/officeDocument/2006/relationships/slide" Target="slide104.xml"/><Relationship Id="rId18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home1inspectionllc.com/inspect.gif&amp;imgrefurl=http://www.home1inspectionllc.com/process.htm&amp;usg=__W_U9f4DL3nWuTrp55-y5oJvHk_k=&amp;h=360&amp;w=319&amp;sz=49&amp;hl=en&amp;start=1&amp;tbnid=-daobgFzxUiUgM:&amp;tbnh=121&amp;tbnw=107&amp;prev=/images%3Fq%3Dinspect%26gbv%3D2%26hl%3Den" TargetMode="External"/><Relationship Id="rId2" Type="http://schemas.openxmlformats.org/officeDocument/2006/relationships/image" Target="../media/image83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echliberation.com/wp-content/uploads/2009/01/judge.jpg&amp;imgrefurl=http://techliberation.com/2009/01/23/pilot-program-to-improve-patent-litigation/&amp;usg=__NgV3SslmD5YD3P00x8BtfefcZck=&amp;h=300&amp;w=400&amp;sz=44&amp;hl=en&amp;start=2&amp;tbnid=IFBEIja22beKcM:&amp;tbnh=93&amp;tbnw=124&amp;prev=/images%3Fq%3Djudge%26gbv%3D2%26hl%3Den" TargetMode="External"/><Relationship Id="rId2" Type="http://schemas.openxmlformats.org/officeDocument/2006/relationships/image" Target="../media/image84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2" Type="http://schemas.openxmlformats.org/officeDocument/2006/relationships/image" Target="../media/image87.jpeg"/><Relationship Id="rId3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4" Type="http://schemas.openxmlformats.org/officeDocument/2006/relationships/image" Target="../media/image88.jpeg"/><Relationship Id="rId5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6" Type="http://schemas.openxmlformats.org/officeDocument/2006/relationships/image" Target="../media/image89.jpeg"/><Relationship Id="rId7" Type="http://schemas.openxmlformats.org/officeDocument/2006/relationships/slide" Target="slide82.xml"/><Relationship Id="rId8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cs1.mcm.edu/~awyatt/csc3315/bloom.htm" TargetMode="External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3">
            <a:hlinkClick r:id="rId1" action="ppaction://hlinksldjump"/>
          </p:cNvPr>
          <p:cNvSpPr/>
          <p:nvPr/>
        </p:nvSpPr>
        <p:spPr>
          <a:xfrm>
            <a:off x="3643200" y="928800"/>
            <a:ext cx="857520" cy="857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>
            <a:hlinkClick r:id="rId2" action="ppaction://hlinksldjump"/>
          </p:cNvPr>
          <p:cNvSpPr/>
          <p:nvPr/>
        </p:nvSpPr>
        <p:spPr>
          <a:xfrm>
            <a:off x="4429080" y="1714680"/>
            <a:ext cx="857160" cy="857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>
            <a:hlinkClick r:id="rId3" action="ppaction://hlinksldjump"/>
          </p:cNvPr>
          <p:cNvSpPr/>
          <p:nvPr/>
        </p:nvSpPr>
        <p:spPr>
          <a:xfrm>
            <a:off x="5286240" y="2571840"/>
            <a:ext cx="857520" cy="857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>
            <a:hlinkClick r:id="rId4" action="ppaction://hlinksldjump"/>
          </p:cNvPr>
          <p:cNvSpPr/>
          <p:nvPr/>
        </p:nvSpPr>
        <p:spPr>
          <a:xfrm>
            <a:off x="6143760" y="3429000"/>
            <a:ext cx="857160" cy="8571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>
            <a:hlinkClick r:id="rId5" action="ppaction://hlinksldjump"/>
          </p:cNvPr>
          <p:cNvSpPr/>
          <p:nvPr/>
        </p:nvSpPr>
        <p:spPr>
          <a:xfrm>
            <a:off x="7072200" y="4357800"/>
            <a:ext cx="857520" cy="8571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>
            <a:hlinkClick r:id="rId6" action="ppaction://hlinksldjump"/>
          </p:cNvPr>
          <p:cNvSpPr/>
          <p:nvPr/>
        </p:nvSpPr>
        <p:spPr>
          <a:xfrm>
            <a:off x="7858080" y="5143680"/>
            <a:ext cx="857160" cy="8571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857160" y="1071720"/>
            <a:ext cx="28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500120" y="1928880"/>
            <a:ext cx="2857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Compreh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071880" y="278604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000680" y="36432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714920" y="45720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5643720" y="535788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214200" y="5429160"/>
            <a:ext cx="1357560" cy="1071720"/>
            <a:chOff x="214200" y="5429160"/>
            <a:chExt cx="1357560" cy="1071720"/>
          </a:xfrm>
        </p:grpSpPr>
        <p:sp>
          <p:nvSpPr>
            <p:cNvPr id="61" name="5-Point Star 13"/>
            <p:cNvSpPr/>
            <p:nvPr/>
          </p:nvSpPr>
          <p:spPr>
            <a:xfrm>
              <a:off x="214200" y="5429160"/>
              <a:ext cx="1357560" cy="1071720"/>
            </a:xfrm>
            <a:prstGeom prst="pie">
              <a:avLst/>
            </a:prstGeom>
            <a:solidFill>
              <a:srgbClr val="e6e0ec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500040" y="5786280"/>
              <a:ext cx="785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ample </a:t>
              </a:r>
              <a:r>
                <a:rPr b="0" lang="en-GB" sz="1200" spc="-1" strike="noStrike" u="sng">
                  <a:solidFill>
                    <a:srgbClr val="0000ff"/>
                  </a:solidFill>
                  <a:uFillTx/>
                  <a:latin typeface="Arial"/>
                  <a:hlinkClick r:id="rId7" action="ppaction://hlinksldjump"/>
                </a:rPr>
                <a:t>Produc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List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708360" y="112536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844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270828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57336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508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5300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04640"/>
            <a:ext cx="23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mikegershon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n ord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range method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these factors i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order these concep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put these events in chronological ord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rt the cards into a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a concept and order the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Order.bmp"/>
          <p:cNvPicPr/>
          <p:nvPr/>
        </p:nvPicPr>
        <p:blipFill>
          <a:blip r:embed="rId1"/>
          <a:stretch/>
        </p:blipFill>
        <p:spPr>
          <a:xfrm>
            <a:off x="6659640" y="4076640"/>
            <a:ext cx="2479680" cy="2781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50920" y="692280"/>
            <a:ext cx="87138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Comprehen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 out or draw pictures to show a particular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 what you think the main idea wa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artoon strip showing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nd perform a play based o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ell the story in your word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picture of some aspect you lik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summary report of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flow chart to illustrate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olouring book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403360" cy="202572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7308720" y="3933720"/>
            <a:ext cx="1224000" cy="1008000"/>
            <a:chOff x="7308720" y="3933720"/>
            <a:chExt cx="1224000" cy="1008000"/>
          </a:xfrm>
        </p:grpSpPr>
        <p:sp>
          <p:nvSpPr>
            <p:cNvPr id="579" name="Oval 3"/>
            <p:cNvSpPr/>
            <p:nvPr/>
          </p:nvSpPr>
          <p:spPr>
            <a:xfrm>
              <a:off x="7451640" y="3933720"/>
              <a:ext cx="936720" cy="1008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>
              <a:hlinkClick r:id="rId3" action="ppaction://hlinksldjump"/>
            </p:cNvPr>
            <p:cNvSpPr/>
            <p:nvPr/>
          </p:nvSpPr>
          <p:spPr>
            <a:xfrm>
              <a:off x="7308720" y="414972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ck to Comprehen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79280" y="333360"/>
            <a:ext cx="871380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pplic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model to demonstrate how it will wor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diorama to illustrate an important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scrapbook about the areas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paper-mache map to include relevant information about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collection of photographs to demonstrate a particular poi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puzzle game using the ideas from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lay model of an item in the material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 a doll in national costum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mural using the same material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extbook about... for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market strategy for your product using a known strategy as a mode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1523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7308720" y="3789360"/>
            <a:ext cx="863640" cy="857160"/>
            <a:chOff x="7308720" y="3789360"/>
            <a:chExt cx="863640" cy="857160"/>
          </a:xfrm>
        </p:grpSpPr>
        <p:sp>
          <p:nvSpPr>
            <p:cNvPr id="585" name="Oval 3"/>
            <p:cNvSpPr/>
            <p:nvPr/>
          </p:nvSpPr>
          <p:spPr>
            <a:xfrm>
              <a:off x="7308720" y="3789360"/>
              <a:ext cx="857520" cy="857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>
              <a:hlinkClick r:id="rId3" action="ppaction://hlinksldjump"/>
            </p:cNvPr>
            <p:cNvSpPr/>
            <p:nvPr/>
          </p:nvSpPr>
          <p:spPr>
            <a:xfrm>
              <a:off x="7308720" y="4005360"/>
              <a:ext cx="863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79280" y="189000"/>
            <a:ext cx="87138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naly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questionnaire to gather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commercial to sell a new produc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n investigation to produce information to support a view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low chart to show the critical stag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graph to illustrate selected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jigsaw puzzl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on a play about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iography of the study pers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report about the area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 a party. Make all the arrangements and record the steps need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a work of art in terms of form, colour and tex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189000"/>
            <a:ext cx="1758960" cy="17049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7451640" y="3213000"/>
            <a:ext cx="1008000" cy="857520"/>
            <a:chOff x="7451640" y="3213000"/>
            <a:chExt cx="1008000" cy="857520"/>
          </a:xfrm>
        </p:grpSpPr>
        <p:sp>
          <p:nvSpPr>
            <p:cNvPr id="591" name="Oval 3"/>
            <p:cNvSpPr/>
            <p:nvPr/>
          </p:nvSpPr>
          <p:spPr>
            <a:xfrm>
              <a:off x="7524720" y="3213000"/>
              <a:ext cx="857160" cy="8575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>
              <a:hlinkClick r:id="rId4" action="ppaction://hlinksldjump"/>
            </p:cNvPr>
            <p:cNvSpPr/>
            <p:nvPr/>
          </p:nvSpPr>
          <p:spPr>
            <a:xfrm>
              <a:off x="7451640" y="3357720"/>
              <a:ext cx="1008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0920" y="189000"/>
            <a:ext cx="8713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Synthe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nt a machine to do a specific tas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building to house your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 new product. Give it a name and plan a marketing campaig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bout your feelings in rela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V show, play, puppet show, role play, song or pantomime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record, book, or magazine cover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new language code and write material suing i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l an id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se a way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 rhythm or put new words to a known melody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40720" y="189000"/>
            <a:ext cx="819000" cy="173016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7740720" y="4437000"/>
            <a:ext cx="857160" cy="857160"/>
            <a:chOff x="7740720" y="4437000"/>
            <a:chExt cx="857160" cy="857160"/>
          </a:xfrm>
        </p:grpSpPr>
        <p:sp>
          <p:nvSpPr>
            <p:cNvPr id="597" name="Oval 3"/>
            <p:cNvSpPr/>
            <p:nvPr/>
          </p:nvSpPr>
          <p:spPr>
            <a:xfrm>
              <a:off x="7740720" y="4437000"/>
              <a:ext cx="857160" cy="85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>
              <a:hlinkClick r:id="rId4" action="ppaction://hlinksldjump"/>
            </p:cNvPr>
            <p:cNvSpPr/>
            <p:nvPr/>
          </p:nvSpPr>
          <p:spPr>
            <a:xfrm>
              <a:off x="7740720" y="4653000"/>
              <a:ext cx="790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50920" y="1197000"/>
            <a:ext cx="871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list of criteria to judge a ... show. Indicate priority and rating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 debate about an issue of special interes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a panel to discuss views, eg "Learning at School.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etter to ... advising on changes needed at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half yearly repo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case to present your view abou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612800" cy="181944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7236000" y="4581360"/>
            <a:ext cx="1150920" cy="857520"/>
            <a:chOff x="7236000" y="4581360"/>
            <a:chExt cx="1150920" cy="857520"/>
          </a:xfrm>
        </p:grpSpPr>
        <p:sp>
          <p:nvSpPr>
            <p:cNvPr id="603" name="Oval 3"/>
            <p:cNvSpPr/>
            <p:nvPr/>
          </p:nvSpPr>
          <p:spPr>
            <a:xfrm>
              <a:off x="7380360" y="4581360"/>
              <a:ext cx="857160" cy="857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>
              <a:hlinkClick r:id="rId4" action="ppaction://hlinksldjump"/>
            </p:cNvPr>
            <p:cNvSpPr/>
            <p:nvPr/>
          </p:nvSpPr>
          <p:spPr>
            <a:xfrm>
              <a:off x="7236000" y="4724280"/>
              <a:ext cx="1150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Knowledge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 after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was it th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name the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cribe what happened 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spoke to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tell wh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d the meaning of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is true or false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Comprehens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in your own words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a brief outline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o you think could of happened next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do you think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as the main idea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as the key character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ifferences exist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n example of what you mea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 definition for...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524720" y="6078600"/>
            <a:ext cx="161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Applicat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know another instance whe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ld this have happened i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group by characteristics such as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factors would you change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apply the method used to some experience of your ow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questions would you ask o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information given, can you develop a set of instructions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uld this information be useful if you had a ...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Analy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ich events could have happene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 ... happened, what might the ending have been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was this similar to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underlying theme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do you see as other possible outcomes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y did ... changes occur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compare your ... with that presented i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explain what must have happened wh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is ... similar to 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are some of the problems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ere some of the motives behin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turning point in the game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problem with...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Synthe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sign a ... to 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not compose a song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see a possible solution to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you had access to all resources how would you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don't you devise your own way to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happen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any ways can you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create new and unusual uses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write a new recipe for a tasty dish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velop a proposal which would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or copy out (a passage or remark by anothe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a passage or remark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hrase would you quote from Barack Obama’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peat what the Prime Minister has just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py out the words of the council lea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back to me what I have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 and then quote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hey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Quote.jpg"/>
          <p:cNvPicPr/>
          <p:nvPr/>
        </p:nvPicPr>
        <p:blipFill>
          <a:blip r:embed="rId1"/>
          <a:stretch/>
        </p:blipFill>
        <p:spPr>
          <a:xfrm>
            <a:off x="6429240" y="5072040"/>
            <a:ext cx="2595600" cy="1639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Evaluation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s there a better solu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udge the value of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fend your position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think ... is a good or a bad thing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have handled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changes to ... would you recommend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believe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you a ... person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feel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effective a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 you think about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as already known; know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rds do you recognise from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allows you to recognise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w a picture containing all the words you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o you recognise this piece of mus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Recognise.gif"/>
          <p:cNvPicPr/>
          <p:nvPr/>
        </p:nvPicPr>
        <p:blipFill>
          <a:blip r:embed="rId1"/>
          <a:stretch/>
        </p:blipFill>
        <p:spPr>
          <a:xfrm>
            <a:off x="6429240" y="4714920"/>
            <a:ext cx="2459160" cy="1860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: recall knowledge from memory; have a re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pop quiz from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can tell us what we did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did we say power lies in politic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have we been studying this ter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recall your earliest memory of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Recall.bmp"/>
          <p:cNvPicPr/>
          <p:nvPr/>
        </p:nvPicPr>
        <p:blipFill>
          <a:blip r:embed="rId1"/>
          <a:stretch/>
        </p:blipFill>
        <p:spPr>
          <a:xfrm>
            <a:off x="7215120" y="4000680"/>
            <a:ext cx="1793880" cy="2725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y or do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atch what I do, then copy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en to what I say, then repea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everything your partner does with a 5 second de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d we just h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peat that excellent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epeat.bmp"/>
          <p:cNvPicPr/>
          <p:nvPr/>
        </p:nvPicPr>
        <p:blipFill>
          <a:blip r:embed="rId1"/>
          <a:stretch/>
        </p:blipFill>
        <p:spPr>
          <a:xfrm>
            <a:off x="6643800" y="4357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duce a copy or representation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reate in a different medium or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roduce the model in simple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raw exactly what I have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vey the exact meaning of this in a different med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trace the m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ermanent record of your piece of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Reproduce.jpg"/>
          <p:cNvPicPr/>
          <p:nvPr/>
        </p:nvPicPr>
        <p:blipFill>
          <a:blip r:embed="rId1"/>
          <a:stretch/>
        </p:blipFill>
        <p:spPr>
          <a:xfrm>
            <a:off x="7215120" y="5286240"/>
            <a:ext cx="171468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ate again; to state differently; to reph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what Student A has said and put it in your ow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you say that different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ay that aga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say that more simp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make that understandable to a Year 6 stu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state.jpg"/>
          <p:cNvPicPr/>
          <p:nvPr/>
        </p:nvPicPr>
        <p:blipFill>
          <a:blip r:embed="rId1"/>
          <a:stretch/>
        </p:blipFill>
        <p:spPr>
          <a:xfrm>
            <a:off x="6500880" y="4857840"/>
            <a:ext cx="2432160" cy="1814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inue to have; keep possess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 over this until it sticks in your mind for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ould you ensure you remember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 the mnemonic to retain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acronym allowing you to retain the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Retain.jpg"/>
          <p:cNvPicPr/>
          <p:nvPr/>
        </p:nvPicPr>
        <p:blipFill>
          <a:blip r:embed="rId1"/>
          <a:stretch/>
        </p:blipFill>
        <p:spPr>
          <a:xfrm>
            <a:off x="7000920" y="4357800"/>
            <a:ext cx="2000160" cy="2500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169992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understanding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bility to unde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4000" y="3357720"/>
            <a:ext cx="882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haracte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lassify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mple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scribe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isc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stabl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plain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Exp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den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Illu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og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ort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Compreh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Comprehens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racte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features of a democr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something ‘fair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characterise ‘Britishness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 an ethical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 characterise 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ize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ttp://www.yopool.com/images/GUCAU0484-2.jpg"/>
          <p:cNvPicPr/>
          <p:nvPr/>
        </p:nvPicPr>
        <p:blipFill>
          <a:blip r:embed="rId1"/>
          <a:stretch/>
        </p:blipFill>
        <p:spPr>
          <a:xfrm>
            <a:off x="7643880" y="535788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7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information and skills acquired through experience or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3645000"/>
            <a:ext cx="828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rran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Def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Descri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Li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Memo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Or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Qu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Recogn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e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produ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t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Re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Knowled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Knowled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dentify by or divide into classes; to catego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t the cards according to the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which features are those of an autoc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e on categories and then classify the group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would you classify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lassifications could you use for th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http://www.education.vic.gov.au/images/content/studentlearning/l3classify2.jpg"/>
          <p:cNvPicPr/>
          <p:nvPr/>
        </p:nvPicPr>
        <p:blipFill>
          <a:blip r:embed="rId1"/>
          <a:stretch/>
        </p:blipFill>
        <p:spPr>
          <a:xfrm>
            <a:off x="7500960" y="5143680"/>
            <a:ext cx="1442880" cy="1552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finish making or do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the word f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ish the s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finish thi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is diagram need to be comple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nything you think will complete the mod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http://www.bmlbss.com/imagelibrary/Help_Jigsaw.jpg"/>
          <p:cNvPicPr/>
          <p:nvPr/>
        </p:nvPicPr>
        <p:blipFill>
          <a:blip r:embed="rId1"/>
          <a:stretch/>
        </p:blipFill>
        <p:spPr>
          <a:xfrm>
            <a:off x="7429680" y="5000760"/>
            <a:ext cx="1585800" cy="1581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chain of events leading up to the G20 pro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describe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give a detailed account of the picture i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citizenship for a Year 6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your own ident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http://farm1.static.flickr.com/117/260004685_8d78d77db0.jpg"/>
          <p:cNvPicPr/>
          <p:nvPr/>
        </p:nvPicPr>
        <p:blipFill>
          <a:blip r:embed="rId1"/>
          <a:stretch/>
        </p:blipFill>
        <p:spPr>
          <a:xfrm>
            <a:off x="7143840" y="5072040"/>
            <a:ext cx="1825560" cy="15922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about so as to reach a deci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or write about (a topic) in d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pictur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 their ever be zero crime? Disc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a play showing parliamentary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cuss your ranking of the cards until you reach a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in threes the key points we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uccessful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http://farm2.static.flickr.com/1388/1041686914_90e500471e.jpg"/>
          <p:cNvPicPr/>
          <p:nvPr/>
        </p:nvPicPr>
        <p:blipFill>
          <a:blip r:embed="rId1"/>
          <a:stretch/>
        </p:blipFill>
        <p:spPr>
          <a:xfrm>
            <a:off x="7397640" y="5516640"/>
            <a:ext cx="1746360" cy="116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stab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40080" indent="-640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 show to be true or certain by determining the f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s establish what we already know about this top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establish what your partner knows about th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ight we establish the truth in this ca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ere is the issue – you must determine the facts in order to establish what is tr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the facts you would use to establis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rtain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http://www.archives.gov.on.ca/english/on-line-exhibits/posters/pics/16145_re_establish_770.jpg"/>
          <p:cNvPicPr/>
          <p:nvPr/>
        </p:nvPicPr>
        <p:blipFill>
          <a:blip r:embed="rId1"/>
          <a:stretch/>
        </p:blipFill>
        <p:spPr>
          <a:xfrm>
            <a:off x="7799400" y="4870440"/>
            <a:ext cx="1344600" cy="19875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ke clear by giving a detailed descrip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 a reason or justification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you show the difference between this and tha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plain why you think th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explanations could their be for this pictu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give a reason for your answ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ain the history of the U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http://atomiq.org/archives/guerilla_gorilla.gif"/>
          <p:cNvPicPr/>
          <p:nvPr/>
        </p:nvPicPr>
        <p:blipFill>
          <a:blip r:embed="rId1"/>
          <a:stretch/>
        </p:blipFill>
        <p:spPr>
          <a:xfrm>
            <a:off x="6429240" y="4857840"/>
            <a:ext cx="2413080" cy="1828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convey (a thought or feeling) in words or by gestures and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your partner how that made you fe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paragraph expressing your opinion on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film make you fe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e image make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your thoughts through m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mrtoys.com/lionel/pics/Lionel-The-Polar-Express-6-31960.jpg"/>
          <p:cNvPicPr/>
          <p:nvPr/>
        </p:nvPicPr>
        <p:blipFill>
          <a:blip r:embed="rId1"/>
          <a:srcRect l="0" t="0" r="0" b="17297"/>
          <a:stretch/>
        </p:blipFill>
        <p:spPr>
          <a:xfrm>
            <a:off x="7215120" y="5715000"/>
            <a:ext cx="1784520" cy="1000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tablish the identity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ognize or select by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words linked to poli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riteria would you give a Year 8 to help them identify the fa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words most appropriate to persuasiv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identify the tone of this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are the legal ter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http://heystupid.files.wordpress.com/2009/04/guess-who.jpg"/>
          <p:cNvPicPr/>
          <p:nvPr/>
        </p:nvPicPr>
        <p:blipFill>
          <a:blip r:embed="rId1"/>
          <a:stretch/>
        </p:blipFill>
        <p:spPr>
          <a:xfrm>
            <a:off x="6643800" y="5286240"/>
            <a:ext cx="2317680" cy="1479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llu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clear by using examples, chart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illustrate this poi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llustrate this idea using physical thea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examples, charts and/or graphs to make the information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me an example of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what you m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http://static.guim.co.uk/sys-images/Guardian/Pix/arts/2002/09/30/128rolfdrawing.jpg"/>
          <p:cNvPicPr/>
          <p:nvPr/>
        </p:nvPicPr>
        <p:blipFill>
          <a:blip r:embed="rId1"/>
          <a:stretch/>
        </p:blipFill>
        <p:spPr>
          <a:xfrm>
            <a:off x="6858000" y="464328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identify as already known; know ag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ircle what you already k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dentify the elements we covered last les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bit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hat did you already know about today’s less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many of these face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http://www.optp.com/images/productimages/8661_medium.jpg"/>
          <p:cNvPicPr/>
          <p:nvPr/>
        </p:nvPicPr>
        <p:blipFill>
          <a:blip r:embed="rId1"/>
          <a:stretch/>
        </p:blipFill>
        <p:spPr>
          <a:xfrm>
            <a:off x="7000920" y="485784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ut in a particular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nge these policies from most to least pop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t these events in order of when they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) What order do these elements of a court case go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) Arrange the cards into the correct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rt the voting reform acts histor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rrange.jpg"/>
          <p:cNvPicPr/>
          <p:nvPr/>
        </p:nvPicPr>
        <p:blipFill>
          <a:blip r:embed="rId1"/>
          <a:stretch/>
        </p:blipFill>
        <p:spPr>
          <a:xfrm>
            <a:off x="6300720" y="4581360"/>
            <a:ext cx="2533680" cy="2025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spoken or written account of someth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vey information about an event or sit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article and then report back to you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report what you did for hom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did for your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duce a news report about human rights ab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? What did you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http://www.oneroastchicken.com/images/special%20report1.jpg"/>
          <p:cNvPicPr/>
          <p:nvPr/>
        </p:nvPicPr>
        <p:blipFill>
          <a:blip r:embed="rId1"/>
          <a:stretch/>
        </p:blipFill>
        <p:spPr>
          <a:xfrm>
            <a:off x="7286760" y="4500720"/>
            <a:ext cx="1747800" cy="2253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give an account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, when, where, who,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How did you get 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you tell us how your grouped worked togeth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elate to your partner your experiences in the lesson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duce a piece of work relating you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earning on the topic to a newcom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o the sch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http://www.pinknews.co.uk/images/relate.jpg"/>
          <p:cNvPicPr/>
          <p:nvPr/>
        </p:nvPicPr>
        <p:blipFill>
          <a:blip r:embed="rId1"/>
          <a:stretch/>
        </p:blipFill>
        <p:spPr>
          <a:xfrm>
            <a:off x="7072200" y="45720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 in grou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ou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separate from a mixed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card s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the causes from the symp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rt the ideas into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ere should the factor group – into which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place this into the Venn diagra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http://www.woodentoystore.co.uk/images/51280%20Sort%20&amp;%20Count.jpg"/>
          <p:cNvPicPr/>
          <p:nvPr/>
        </p:nvPicPr>
        <p:blipFill>
          <a:blip r:embed="rId1"/>
          <a:stretch/>
        </p:blipFill>
        <p:spPr>
          <a:xfrm>
            <a:off x="7413480" y="5214960"/>
            <a:ext cx="1730520" cy="13842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press the sense of (words or text) in another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nslate in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convert or be converted into another form or 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late the concept into a piece of d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lay pictionary with your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ke a list of all you have lear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day then translate this into a Hai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draw the artic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urn today’s learning into a sh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snappy ch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www.squidsquid.com/images/squid_translate.png"/>
          <p:cNvPicPr/>
          <p:nvPr/>
        </p:nvPicPr>
        <p:blipFill>
          <a:blip r:embed="rId1"/>
          <a:stretch/>
        </p:blipFill>
        <p:spPr>
          <a:xfrm>
            <a:off x="4932360" y="3213000"/>
            <a:ext cx="3889440" cy="3489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apply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practical use or 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342900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alc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ho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mon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rama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mplo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Impl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Interpr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Ope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Pract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ole-Pl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Sket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l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Su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pplic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pplic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ng into operation o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ly your learning to this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what we have done today to negotiate a controversial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apply that idea to this inst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me how you would apply your reasoning to a disagreement between police and protes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use your learning to answer the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://www.beauty-advices.com/wp-content/uploads/2007/08/apply-mineral-foundation.jpg"/>
          <p:cNvPicPr/>
          <p:nvPr/>
        </p:nvPicPr>
        <p:blipFill>
          <a:blip r:embed="rId1"/>
          <a:stretch/>
        </p:blipFill>
        <p:spPr>
          <a:xfrm>
            <a:off x="7286760" y="4857840"/>
            <a:ext cx="1682640" cy="183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c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determine (mathematical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What percentage of people voted for the Green Pa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lculate the number of protestors in the crow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lose to the water supply was the oil refinery loca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alculate the trend rate of growth in the econom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more people are unemployed this mon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http://www.iflmanagement.co.uk/images/calculate-flip.jpg"/>
          <p:cNvPicPr/>
          <p:nvPr/>
        </p:nvPicPr>
        <p:blipFill>
          <a:blip r:embed="rId1"/>
          <a:stretch/>
        </p:blipFill>
        <p:spPr>
          <a:xfrm>
            <a:off x="7072200" y="4786200"/>
            <a:ext cx="1819440" cy="19400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ick out as being the best of two or more alternatives.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ecide on a course of a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ption would be the best for the judge to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hoose the most appropriate sentence for the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urse would you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the dilemma, make a list of possible responses in your group and then choose th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ou think i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ill you approach this projec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der to meet the success crite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ttp://www.dcnr.state.pa.us/stateparks/hike/hike_images/hike_choose.gif"/>
          <p:cNvPicPr/>
          <p:nvPr/>
        </p:nvPicPr>
        <p:blipFill>
          <a:blip r:embed="rId1"/>
          <a:stretch/>
        </p:blipFill>
        <p:spPr>
          <a:xfrm>
            <a:off x="5786280" y="4621320"/>
            <a:ext cx="2984760" cy="20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n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learly show that (something) exists or is tru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practical exhibition and explanation 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monstrate that gravity is a cons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emonstrate to the class that you are righ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how that tougher sentencing is good for socie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us through drama how global warming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demonstrate that you exi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http://upload.wikimedia.org/wikipedia/commons/6/68/London_anti-war_protest_banners.jpg"/>
          <p:cNvPicPr/>
          <p:nvPr/>
        </p:nvPicPr>
        <p:blipFill>
          <a:blip r:embed="rId1"/>
          <a:stretch/>
        </p:blipFill>
        <p:spPr>
          <a:xfrm>
            <a:off x="7500960" y="4714920"/>
            <a:ext cx="1519200" cy="20239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ma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esent as a play (as dra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Dramatise the flow of wealth through the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drama to show how sustainable development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ourt transcript to present a play showing what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present the interplay of pow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uthority and oppression through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n the newspaper headline into a silent mov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http://www.monksparkschool.org.uk/_files/images/years/news_events/rewards_tr_79_feb_07_001.jpg"/>
          <p:cNvPicPr/>
          <p:nvPr/>
        </p:nvPicPr>
        <p:blipFill>
          <a:blip r:embed="rId1"/>
          <a:stretch/>
        </p:blipFill>
        <p:spPr>
          <a:xfrm>
            <a:off x="7215120" y="4357800"/>
            <a:ext cx="1768680" cy="2359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4130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 or describe the exact nature or scope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 the meaning of (a word or phr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definition of civil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define ‘justic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meaning of responsibil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do the limits of government power fa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sustainability me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efine.jpg"/>
          <p:cNvPicPr/>
          <p:nvPr/>
        </p:nvPicPr>
        <p:blipFill>
          <a:blip r:embed="rId1"/>
          <a:stretch/>
        </p:blipFill>
        <p:spPr>
          <a:xfrm>
            <a:off x="6804000" y="4749840"/>
            <a:ext cx="2212920" cy="1994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mpl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us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Can you employ that same reasoning on this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Use the formula to answer the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employ your rule in unusual sit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use of the information to solv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ior knowledge and skills do you think 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 employ in today’s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http://www.desmondgv.com/about/images/employ.gif"/>
          <p:cNvPicPr/>
          <p:nvPr/>
        </p:nvPicPr>
        <p:blipFill>
          <a:blip r:embed="rId1"/>
          <a:stretch/>
        </p:blipFill>
        <p:spPr>
          <a:xfrm>
            <a:off x="7286760" y="4962600"/>
            <a:ext cx="1760400" cy="1895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p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t into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the changes to you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implement these ide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you have to do to put these changes into eff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should the council implement its new education poli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-write your essay with these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http://www.globalstudio.co.uk/images/content_implement.jpg"/>
          <p:cNvPicPr/>
          <p:nvPr/>
        </p:nvPicPr>
        <p:blipFill>
          <a:blip r:embed="rId1"/>
          <a:stretch/>
        </p:blipFill>
        <p:spPr>
          <a:xfrm>
            <a:off x="7215120" y="5264280"/>
            <a:ext cx="1790640" cy="15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1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lain the meaning of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nderstand as having a particular meaning or signific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erform (a creative work) in a way that conveys one’s understanding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creator’s ide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your understanding of the story by interpreting it creativ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interpret ‘change’ and ‘continuity’ to an ali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interpret this diagram of the UN for a Year 7 audie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ite an article interpreting the convention for a populist read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yboard an advert that will allow viewers to understand the r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http://www.uwsp.edu/cnr/etf/Interpret%20reader.jpg"/>
          <p:cNvPicPr/>
          <p:nvPr/>
        </p:nvPicPr>
        <p:blipFill>
          <a:blip r:embed="rId1"/>
          <a:stretch/>
        </p:blipFill>
        <p:spPr>
          <a:xfrm>
            <a:off x="7372440" y="4929120"/>
            <a:ext cx="1771560" cy="19288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pe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trol the functioning of (a machine or proces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with reference to an organization) man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how you operate the dr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operate the dr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nage the time your group spends on each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a minister have to operate in order to get a private member’s bill through parlia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an effective UN Secretary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? How would they oper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http://www.shohola.com/museum/Welcome%20to%20the%20Shohola%20Museum%20of%20Communications%20and%20Technology_files/MCommTechArmyTelephone.jpg"/>
          <p:cNvPicPr/>
          <p:nvPr/>
        </p:nvPicPr>
        <p:blipFill>
          <a:blip r:embed="rId1"/>
          <a:stretch/>
        </p:blipFill>
        <p:spPr>
          <a:xfrm>
            <a:off x="6929280" y="514368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, accomplish, or fulfil (an action, task, or functio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 an overhead kick from the edge of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erform one of the pieces of oratory based on the success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arry out a cross-examin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ccomplish a successful defence of you climate change b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your group show us how ministers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http://therealsouthkorea.files.wordpress.com/2008/08/drummers-perform-during-the-opening-ceremony-for-the-2008-beijing-summer-olympics.jpg"/>
          <p:cNvPicPr/>
          <p:nvPr/>
        </p:nvPicPr>
        <p:blipFill>
          <a:blip r:embed="rId1"/>
          <a:stretch/>
        </p:blipFill>
        <p:spPr>
          <a:xfrm>
            <a:off x="7215120" y="5572080"/>
            <a:ext cx="1698840" cy="11318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erform (an activity) or exercise (a skill) repeatedly in order t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 or maintain proficiency in i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 or perform (an activity or custom) habitually or regular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se that until you can do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ad a newspap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very day until it’s a hab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ercise your reasoning daily in order to improve your arg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Keep practising your speeches ready for the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 will be discussing again today so you can practise ver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as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http://www.radenterprises.co.uk/images/Practise-Skirt-Lavender.jpg"/>
          <p:cNvPicPr/>
          <p:nvPr/>
        </p:nvPicPr>
        <p:blipFill>
          <a:blip r:embed="rId1"/>
          <a:stretch/>
        </p:blipFill>
        <p:spPr>
          <a:xfrm>
            <a:off x="7715160" y="4857840"/>
            <a:ext cx="128916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le-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u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the acting out of a particular r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haracter cards to hot-seat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rotest letter in char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act out the concept as a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oday we are going to do a mock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 speech that Kofi Annan might give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http://www.moorestown.com/paragraph_images/1081.jpg"/>
          <p:cNvPicPr/>
          <p:nvPr/>
        </p:nvPicPr>
        <p:blipFill>
          <a:blip r:embed="rId1"/>
          <a:stretch/>
        </p:blipFill>
        <p:spPr>
          <a:xfrm>
            <a:off x="7643880" y="4714920"/>
            <a:ext cx="1338120" cy="203508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e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ke a sketch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brief account or general outlin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sketch the main features of the criminal justice syst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a sketch of how the economy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 a brief account of how your group 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a general outline of your cours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efly, what is parliament and how does it fun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http://www.drawmyface.co.uk/images/caricatures/simon-cowell-sketch.jpg"/>
          <p:cNvPicPr/>
          <p:nvPr/>
        </p:nvPicPr>
        <p:blipFill>
          <a:blip r:embed="rId1"/>
          <a:stretch/>
        </p:blipFill>
        <p:spPr>
          <a:xfrm>
            <a:off x="7313760" y="4384800"/>
            <a:ext cx="1619280" cy="23302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find an answer to, explanation for, or way of dealing with (a problem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 myste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Here is your problem, you have 30 minutes to find a solution within the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meters I have set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have solved the problem of hyperinflation in Weimar German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find an answer to the problem of MPs expense claim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n the surface this appears a mystery – what explanation can you find in today’s lesson to solve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famine is the problem, what is the solu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http://collateraldamage.files.wordpress.com/2007/12/rubikscube.jpg"/>
          <p:cNvPicPr/>
          <p:nvPr/>
        </p:nvPicPr>
        <p:blipFill>
          <a:blip r:embed="rId1"/>
          <a:stretch/>
        </p:blipFill>
        <p:spPr>
          <a:xfrm>
            <a:off x="6929280" y="4714920"/>
            <a:ext cx="199872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put forward for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ggest an alternative way of electing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ut forward some ideas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uggest a way to improve our learning as a cla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lter the situation in Bur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changing the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http://ksjtracker.mit.edu/wp-content/uploads/2009/04/suggestion_box1.jpg"/>
          <p:cNvPicPr/>
          <p:nvPr/>
        </p:nvPicPr>
        <p:blipFill>
          <a:blip r:embed="rId1"/>
          <a:stretch/>
        </p:blipFill>
        <p:spPr>
          <a:xfrm>
            <a:off x="7364520" y="4929120"/>
            <a:ext cx="1779480" cy="17496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workings of local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process of formal deb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presti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a detailed written account of the school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a speech detailing your active citizenshi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escribe.jpg"/>
          <p:cNvPicPr/>
          <p:nvPr/>
        </p:nvPicPr>
        <p:blipFill>
          <a:blip r:embed="rId1"/>
          <a:stretch/>
        </p:blipFill>
        <p:spPr>
          <a:xfrm>
            <a:off x="7236000" y="4457880"/>
            <a:ext cx="1714320" cy="2400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68360" y="1700280"/>
            <a:ext cx="814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-    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 detailed examination of the elements or structure of some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the separation of something into its constituent el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50920" y="3716280"/>
            <a:ext cx="889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naly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ategoriz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ompa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fferenti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Discrimin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Distingu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Explo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Investig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Ques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naly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naly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examine in detail the elements or structur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riteria are used to determine a story’s position in the newspaper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is political power distributed in Englan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in detail the structure of the UDH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nalyse the wording of Barack Obama’s opening paragraph in his inauguration spe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r produce an analysis of the constraints on private individuals wishing to add a loft conversion to their terrace hou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" descr="jdo0856l"/>
          <p:cNvPicPr/>
          <p:nvPr/>
        </p:nvPicPr>
        <p:blipFill>
          <a:blip r:embed="rId1"/>
          <a:stretch/>
        </p:blipFill>
        <p:spPr>
          <a:xfrm>
            <a:off x="6948360" y="4941720"/>
            <a:ext cx="2016360" cy="1791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assess the quality or natur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ss the quality of your work in light of the success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assessment would you make of the speaker’s argumen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offer us an appraisal of your partner’s strengths and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aknesses during the tas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v)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f what quality is this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useful are these figures to us for helping to explain the incre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unemploy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BF627-appraise"/>
          <p:cNvPicPr/>
          <p:nvPr/>
        </p:nvPicPr>
        <p:blipFill>
          <a:blip r:embed="rId1"/>
          <a:stretch/>
        </p:blipFill>
        <p:spPr>
          <a:xfrm>
            <a:off x="7667640" y="5589720"/>
            <a:ext cx="1219320" cy="1123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tego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ce in a particular category; classif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quotes and then classify them bas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hetorical devices they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tegorize the MP’s voting records for the cou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your reasoning for placing it in that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lassify these items using the continuum from private to publ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classify power sharing in the context of democratic process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THIN%20set%20of%20drawers%20EDITED"/>
          <p:cNvPicPr/>
          <p:nvPr/>
        </p:nvPicPr>
        <p:blipFill>
          <a:blip r:embed="rId1"/>
          <a:stretch/>
        </p:blipFill>
        <p:spPr>
          <a:xfrm>
            <a:off x="8028000" y="2421000"/>
            <a:ext cx="974880" cy="43210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/with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estimate, measure, or note the similarity o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similarity betw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point out or describe the resemblances of (something)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pare direct and representative democ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these two images compa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similarities are there between monetary and fiscal polic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rights differ from responsibil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duce a split-screen image showing a comparison of justice and fairne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spot_the_difference"/>
          <p:cNvPicPr/>
          <p:nvPr/>
        </p:nvPicPr>
        <p:blipFill>
          <a:blip r:embed="rId1"/>
          <a:stretch/>
        </p:blipFill>
        <p:spPr>
          <a:xfrm>
            <a:off x="6732720" y="5445000"/>
            <a:ext cx="2162160" cy="11937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are so as to emphasize differ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highlight the differences between autocracy and democrac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pare and contrast the perceptions of the manager and his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describe the contrast 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raw a picture emphasising the differences between trust and loyal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es scientific thought contrast with religious though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DQ-Tool_Contrast_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941720"/>
            <a:ext cx="2305080" cy="1737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>
            <a:hlinkClick r:id="rId3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fferenti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 or identify as different; distingui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ifferentiate between fact and opinion in the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fferentiate the speeches according to the mark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riteria do we need in order to differentiate these manifesto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dentify the inconsistencies within the evidence – what parts are different from the r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f these does not fit and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differentiate-yourself-from-the-crowd"/>
          <p:cNvPicPr/>
          <p:nvPr/>
        </p:nvPicPr>
        <p:blipFill>
          <a:blip r:embed="rId1"/>
          <a:stretch/>
        </p:blipFill>
        <p:spPr>
          <a:xfrm>
            <a:off x="7451640" y="5516640"/>
            <a:ext cx="1473120" cy="117792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cognize a dis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to us why there is a distinction between right and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ich of these is an example of civil la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good, which b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iscriminate when faced with all this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the key words in the ques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discriminate"/>
          <p:cNvPicPr/>
          <p:nvPr/>
        </p:nvPicPr>
        <p:blipFill>
          <a:blip r:embed="rId1"/>
          <a:stretch/>
        </p:blipFill>
        <p:spPr>
          <a:xfrm>
            <a:off x="7524720" y="530064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tingu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, show, or treat as diffe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nage to discern (something barely percepti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istinguishes a liberal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fferences can you distinguish between the two pieces of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 we need to look for when distinguishing a civil case from a criminal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the problems inherent in this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cern the most appropriate course of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the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nashville"/>
          <p:cNvPicPr/>
          <p:nvPr/>
        </p:nvPicPr>
        <p:blipFill>
          <a:blip r:embed="rId1"/>
          <a:stretch/>
        </p:blipFill>
        <p:spPr>
          <a:xfrm>
            <a:off x="7093080" y="5589720"/>
            <a:ext cx="1873080" cy="10634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spect closely to determine the nature or condition of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est the knowledge or proficiency o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the video bearing in mind the criteria we have dev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ine the different media to determine their relevance to our tas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ould you look for when examining whether this statement is factually correc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 is Britain’s political system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nature of human rights dis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examine"/>
          <p:cNvPicPr/>
          <p:nvPr/>
        </p:nvPicPr>
        <p:blipFill>
          <a:blip r:embed="rId1"/>
          <a:stretch/>
        </p:blipFill>
        <p:spPr>
          <a:xfrm>
            <a:off x="7236000" y="4797360"/>
            <a:ext cx="1736640" cy="18734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lis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every MP in the House of Comm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w up a list of issues most important to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ould be on a list of famous hero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factors would you write to make a list of reasons behind the collapse of the USS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list of different ethnic background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ist.gif"/>
          <p:cNvPicPr/>
          <p:nvPr/>
        </p:nvPicPr>
        <p:blipFill>
          <a:blip r:embed="rId1"/>
          <a:stretch/>
        </p:blipFill>
        <p:spPr>
          <a:xfrm>
            <a:off x="7143840" y="4508640"/>
            <a:ext cx="1832040" cy="2152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erform a scientific experiment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ry out new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an experiment to answer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periment with the material until you find the best way to convey it to your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use an experiment to prove the clai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experiment will tell us if CO2 emissions are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n experiment to consider the effects of introducing communism to a capitalist count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millers-experiment"/>
          <p:cNvPicPr/>
          <p:nvPr/>
        </p:nvPicPr>
        <p:blipFill>
          <a:blip r:embed="rId1"/>
          <a:stretch/>
        </p:blipFill>
        <p:spPr>
          <a:xfrm>
            <a:off x="6572160" y="5167440"/>
            <a:ext cx="2333880" cy="15080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ravel through (an unfamiliar area) in order to learn about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inquire into or discuss in detai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valuate (a new option or possibil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amine or scrutinize by searching through or touch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is time to explore the material prior to us discussing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n you explore your answer furth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a change in the cost of living affect t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plore the object and then tell us what it has to do with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rite a paragraph exploring what it might be like to live in an LE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exploreCovers08"/>
          <p:cNvPicPr/>
          <p:nvPr/>
        </p:nvPicPr>
        <p:blipFill>
          <a:blip r:embed="rId1"/>
          <a:stretch/>
        </p:blipFill>
        <p:spPr>
          <a:xfrm>
            <a:off x="7786800" y="5143680"/>
            <a:ext cx="1158840" cy="15141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vestig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a systematic or formal inquiry into (an incident or allegation) so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 to establish the tru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 (a subject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make a search or systematic inquir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stigate the legitimacy of the Daily Telegraph’s clai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hoose a topic you would like to investigate as an extended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use reason or give evidence to push that analysis furth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find out why our school so ethnically diver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would you do to investigate the truth claims of the argu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investigate"/>
          <p:cNvPicPr/>
          <p:nvPr/>
        </p:nvPicPr>
        <p:blipFill>
          <a:blip r:embed="rId1"/>
          <a:stretch/>
        </p:blipFill>
        <p:spPr>
          <a:xfrm>
            <a:off x="7380360" y="4724280"/>
            <a:ext cx="1577880" cy="2016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sk questions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xpress doubt about; object 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’s argument and then produce a list of questions to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do we liv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ll me why this might be untr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objections do you have to this interpretation of immig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question"/>
          <p:cNvPicPr/>
          <p:nvPr/>
        </p:nvPicPr>
        <p:blipFill>
          <a:blip r:embed="rId1"/>
          <a:stretch/>
        </p:blipFill>
        <p:spPr>
          <a:xfrm>
            <a:off x="8172360" y="4869000"/>
            <a:ext cx="822240" cy="17269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-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se research to discover or verify information to be presented in (a book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, etc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research do you need to do in order to support your assertion that the world is a cub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can we verify if what a politician says is true or n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the history of the 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duce a report into the formation of the European Uni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us how to use the article in order to verify the pod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research_front"/>
          <p:cNvPicPr/>
          <p:nvPr/>
        </p:nvPicPr>
        <p:blipFill>
          <a:blip r:embed="rId1"/>
          <a:stretch/>
        </p:blipFill>
        <p:spPr>
          <a:xfrm>
            <a:off x="6877080" y="5300640"/>
            <a:ext cx="2016000" cy="13557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subject to a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verbal reasoning to test your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the theory of the trickle-down effect stand up to t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ight we test whether unemployment really is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 like your idea, what if we lived underwater – would it still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through the different scenarios with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iginal moral position and note if it changes at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plate%20with%205"/>
          <p:cNvPicPr/>
          <p:nvPr/>
        </p:nvPicPr>
        <p:blipFill>
          <a:blip r:embed="rId1"/>
          <a:srcRect l="0" t="0" r="0" b="4159"/>
          <a:stretch/>
        </p:blipFill>
        <p:spPr>
          <a:xfrm>
            <a:off x="7451640" y="5229360"/>
            <a:ext cx="1441440" cy="135396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13880" y="171468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 -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combination of components to form a connected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214200" y="350028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omb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nstru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v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esi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Form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Hypo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teg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Orga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Pl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Pro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yn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Synthe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Synthe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b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join or mix together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do or engage in simultane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bine three of the ideas we have come up with into an argum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find a way to join the two suggestions togeth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can we combine democratic accountability with strong govern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we combine free speech and public tolerance in our societ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ub your stomach and pat your h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OMBINE3"/>
          <p:cNvPicPr/>
          <p:nvPr/>
        </p:nvPicPr>
        <p:blipFill>
          <a:blip r:embed="rId1"/>
          <a:stretch/>
        </p:blipFill>
        <p:spPr>
          <a:xfrm>
            <a:off x="6588000" y="5013360"/>
            <a:ext cx="2448000" cy="1749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(a work of art, especially music or poetry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rrange in an orderly or artistic wa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ose a song advocating equal pay for under-18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ake a painting or drawing expressing your opinions regarding human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ut the key ideas from today’s lesson into a short po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arrange these objects to conv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we have been discuss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rite 16 bars that will elicit sympathy in the vie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ompose"/>
          <p:cNvPicPr/>
          <p:nvPr/>
        </p:nvPicPr>
        <p:blipFill>
          <a:blip r:embed="rId1"/>
          <a:stretch/>
        </p:blipFill>
        <p:spPr>
          <a:xfrm>
            <a:off x="6877080" y="4581360"/>
            <a:ext cx="2124000" cy="21592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uild or erect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form (a theory) from various conceptual el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ake what we have talked about and build a theory of justice from 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theorise the class struggle from these sourc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struct an argument supporting your view that all oxen are laz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construct a defence of the government’s energy polic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an we build from what we already kn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construct"/>
          <p:cNvPicPr/>
          <p:nvPr/>
        </p:nvPicPr>
        <p:blipFill>
          <a:blip r:embed="rId1"/>
          <a:stretch/>
        </p:blipFill>
        <p:spPr>
          <a:xfrm>
            <a:off x="6588000" y="494172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spond or cause to corres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the word with the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tch the politician to the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match the causes with the eff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oup the words into corresponding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pictures correspond to one ano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atch.gif"/>
          <p:cNvPicPr/>
          <p:nvPr/>
        </p:nvPicPr>
        <p:blipFill>
          <a:blip r:embed="rId1"/>
          <a:stretch/>
        </p:blipFill>
        <p:spPr>
          <a:xfrm>
            <a:off x="7020000" y="4448160"/>
            <a:ext cx="2124000" cy="2409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ring into ex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ate a constitution for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reate something from no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resentation ‘selling’ your idea to the rest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reate a new design for the Houses of Parli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link can you make between the random wor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7" descr="creative-recycled-furniture-designs"/>
          <p:cNvPicPr/>
          <p:nvPr/>
        </p:nvPicPr>
        <p:blipFill>
          <a:blip r:embed="rId1"/>
          <a:stretch/>
        </p:blipFill>
        <p:spPr>
          <a:xfrm>
            <a:off x="6948360" y="4797360"/>
            <a:ext cx="2016360" cy="18925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v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n or in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ise a way to stop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vent a solution to global w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 timetable of implementation for the constitutional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solutions can you devi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your project and how you inten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come obsta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home-security-tips-2"/>
          <p:cNvPicPr/>
          <p:nvPr/>
        </p:nvPicPr>
        <p:blipFill>
          <a:blip r:embed="rId1"/>
          <a:stretch/>
        </p:blipFill>
        <p:spPr>
          <a:xfrm>
            <a:off x="6804000" y="4581360"/>
            <a:ext cx="2158920" cy="2136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onceive and produce a design for.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lan or intend for a purp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a road map for pe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hat would an alternative regulatory authority for the media look lik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design a school council constitution that would take into account as many interests as possib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conceive of a different solution? Produce a plan of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me a perpetual motion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design-basel-07"/>
          <p:cNvPicPr/>
          <p:nvPr/>
        </p:nvPicPr>
        <p:blipFill>
          <a:blip r:embed="rId1"/>
          <a:stretch/>
        </p:blipFill>
        <p:spPr>
          <a:xfrm>
            <a:off x="6948360" y="5013360"/>
            <a:ext cx="2016360" cy="17114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rm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or prepare methodicall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express (an idea) in a concise or systematic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mulate an argument in support of proportional re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ideas can you formulate regarding where we should go nex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epare a formula for sustainable liv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 your work until you can express it systemat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ep going over your work until you c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rsuade the class as concisely as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science"/>
          <p:cNvPicPr/>
          <p:nvPr/>
        </p:nvPicPr>
        <p:blipFill>
          <a:blip r:embed="rId1"/>
          <a:stretch/>
        </p:blipFill>
        <p:spPr>
          <a:xfrm>
            <a:off x="6588000" y="4724280"/>
            <a:ext cx="2448000" cy="1959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ypo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ut forward as a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explain the MPs expenses scand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happen if citizenship education were made non-statut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 a hypothesis that can explain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lay showcasing a possible explana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dia panic over swine f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think will happen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qmar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3716280"/>
            <a:ext cx="869760" cy="28796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2920" y="14288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combine or be combined to form a wh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integrate fair trade with the desire to make mon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ntegrate effective social policy and the free mark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these different things we have discussed and combine them into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s would we need in order to integrate successfully into the Eur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different cultures be integrated into a concept of ‘Britishnes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magoomla"/>
          <p:cNvPicPr/>
          <p:nvPr/>
        </p:nvPicPr>
        <p:blipFill>
          <a:blip r:embed="rId1"/>
          <a:stretch/>
        </p:blipFill>
        <p:spPr>
          <a:xfrm>
            <a:off x="712800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ombine or be combined into a who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lend gradually into something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rge these ideas together in your ess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rite a speech merging these persp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these perspectives be merged? If so, h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Join together with another group and merge your role-plays togethe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merge the three arguments of team B into one concluding state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merge"/>
          <p:cNvPicPr/>
          <p:nvPr/>
        </p:nvPicPr>
        <p:blipFill>
          <a:blip r:embed="rId1"/>
          <a:stretch/>
        </p:blipFill>
        <p:spPr>
          <a:xfrm>
            <a:off x="7740720" y="5445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ga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; or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ganise your thoughts into a clear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organise a Middle East peace negoti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organise the aims of your proj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ganise the issues according to which you think are most pressing for the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 system to arrange the possible solutions to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" descr="organiser_eveneme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2158920" cy="15559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decide on and arrange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the next stage of your cours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raw a plan of how you will set the experimen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n answer to the questions you expect the opposing team to ask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plan to raise awareness about your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cide who is doing what in your group and arrange everything so you are ready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seating_plan"/>
          <p:cNvPicPr/>
          <p:nvPr/>
        </p:nvPicPr>
        <p:blipFill>
          <a:blip r:embed="rId1"/>
          <a:stretch/>
        </p:blipFill>
        <p:spPr>
          <a:xfrm>
            <a:off x="7524720" y="5300640"/>
            <a:ext cx="1492200" cy="14032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t forward (an idea or plan) for consideration by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ose a change to the way the school is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human rights be protected around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judging the effectiveness of local councillo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pose a ‘fit and proper persons’ test for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oposals would you make for improving y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cal are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propose_w"/>
          <p:cNvPicPr/>
          <p:nvPr/>
        </p:nvPicPr>
        <p:blipFill>
          <a:blip r:embed="rId1"/>
          <a:stretch/>
        </p:blipFill>
        <p:spPr>
          <a:xfrm>
            <a:off x="7667640" y="4869000"/>
            <a:ext cx="1311120" cy="1726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m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920" y="1268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rn by he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 history of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member these four pictures when I cover them 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se behaviour rules by r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a mnemonic to remember the colours of the rainb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learn these newspaper headlines off by hear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emorise.jpg"/>
          <p:cNvPicPr/>
          <p:nvPr/>
        </p:nvPicPr>
        <p:blipFill>
          <a:blip r:embed="rId1"/>
          <a:stretch/>
        </p:blipFill>
        <p:spPr>
          <a:xfrm>
            <a:off x="7236000" y="4581360"/>
            <a:ext cx="1749240" cy="2111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28760" y="1357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 by synthesi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bine into a coherent wh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n essay plan outlining all the ideas we have 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explain these concepts to a Year 7 class using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newspaper article that makes sense of all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a poster that explained the UN and UDHR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visualise a storyboard that comb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, civil and political rights into an intel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le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space-synthesizer"/>
          <p:cNvPicPr/>
          <p:nvPr/>
        </p:nvPicPr>
        <p:blipFill>
          <a:blip r:embed="rId1"/>
          <a:stretch/>
        </p:blipFill>
        <p:spPr>
          <a:xfrm>
            <a:off x="7093080" y="5300640"/>
            <a:ext cx="1873080" cy="1397160"/>
          </a:xfrm>
          <a:prstGeom prst="rect">
            <a:avLst/>
          </a:prstGeom>
          <a:ln w="0">
            <a:noFill/>
          </a:ln>
        </p:spPr>
      </p:pic>
      <p:sp>
        <p:nvSpPr>
          <p:cNvPr id="47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e or bring together for a common purpose or to form a wh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can we unite the concepts of justice and fairn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would a noise uniting hope and joy sound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a painting uniting trust and pleasure look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ake two of the ideas regarding deregulation and weave an argument out of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urn the two statements into a story explai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ng views of friend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7" descr="unite-logo-782972"/>
          <p:cNvPicPr/>
          <p:nvPr/>
        </p:nvPicPr>
        <p:blipFill>
          <a:blip r:embed="rId1"/>
          <a:stretch/>
        </p:blipFill>
        <p:spPr>
          <a:xfrm>
            <a:off x="6929280" y="4199040"/>
            <a:ext cx="2079720" cy="25416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97160" y="1978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– an appraisal or judgement of the value of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85840" y="3500280"/>
            <a:ext cx="84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rg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ss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itiq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f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Gr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sp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Jus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a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vi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Evalu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Evalu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sess the quality or natur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is source to 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you advise me to teach this activity again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is good? Under what measure of val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your partner’s work and then tell them three good things about it and one area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ype of language is the dictator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7" descr="BF627-appraise"/>
          <p:cNvPicPr/>
          <p:nvPr/>
        </p:nvPicPr>
        <p:blipFill>
          <a:blip r:embed="rId1"/>
          <a:stretch/>
        </p:blipFill>
        <p:spPr>
          <a:xfrm>
            <a:off x="7380360" y="522936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give reasons or cite evidence in support of some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can give us an argument agains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an you give us to suppor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n essay arguing for or against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duce a radio advert that gives young people a reason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an argument from your own opi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material around the ro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argue1"/>
          <p:cNvPicPr/>
          <p:nvPr/>
        </p:nvPicPr>
        <p:blipFill>
          <a:blip r:embed="rId1"/>
          <a:stretch/>
        </p:blipFill>
        <p:spPr>
          <a:xfrm>
            <a:off x="6227640" y="4508640"/>
            <a:ext cx="2737080" cy="218124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ss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or estim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likelihood of newspapers revealing their sour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k your work and set a target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report assessing the importance of freedom of information in a democratic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ces are there for the Kyoto Agreement proving a succ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evaluate the impact of Gordon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krot9802"/>
          <p:cNvPicPr/>
          <p:nvPr/>
        </p:nvPicPr>
        <p:blipFill>
          <a:blip r:embed="rId1"/>
          <a:stretch/>
        </p:blipFill>
        <p:spPr>
          <a:xfrm>
            <a:off x="7215120" y="4857840"/>
            <a:ext cx="1835280" cy="1873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evaluate in a detailed and analytical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tique the speech in the context of the manifes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offer us a critique of the fil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Newsnight interview-style role-play critiquing the proposed introduction of ID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essay critiquing attitudes toward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ritique media images of young peopl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critique_005"/>
          <p:cNvPicPr/>
          <p:nvPr/>
        </p:nvPicPr>
        <p:blipFill>
          <a:blip r:embed="rId1"/>
          <a:srcRect l="0" t="0" r="6165" b="31156"/>
          <a:stretch/>
        </p:blipFill>
        <p:spPr>
          <a:xfrm>
            <a:off x="6877080" y="4724280"/>
            <a:ext cx="2152800" cy="20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mpt to justif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nd your posi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magine there is no UDHR, Human Rights Act etc., how would you defend your right to freedom of speech, education etc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justify MP expenditure on duck ho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end the proposition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defend your contention that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ld is made of play doug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defend"/>
          <p:cNvPicPr/>
          <p:nvPr/>
        </p:nvPicPr>
        <p:blipFill>
          <a:blip r:embed="rId1"/>
          <a:stretch/>
        </p:blipFill>
        <p:spPr>
          <a:xfrm>
            <a:off x="6924600" y="4552920"/>
            <a:ext cx="2219400" cy="230508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m an idea of the amount or value of; ass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e sour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ges would you make to improve the White 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aluate the impact of government spending on educational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effective was the pres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think peacekeeping is a good 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d thing?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evaluate"/>
          <p:cNvPicPr/>
          <p:nvPr/>
        </p:nvPicPr>
        <p:blipFill>
          <a:blip r:embed="rId1"/>
          <a:stretch/>
        </p:blipFill>
        <p:spPr>
          <a:xfrm>
            <a:off x="7020000" y="4437000"/>
            <a:ext cx="2016000" cy="23050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inspect closely to determine the nature or condi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 judicial system founded on principles of care or justi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has power in the U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emocratic is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amine the source and determine its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ndition is the local environment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examine"/>
          <p:cNvPicPr/>
          <p:nvPr/>
        </p:nvPicPr>
        <p:blipFill>
          <a:blip r:embed="rId1"/>
          <a:stretch/>
        </p:blipFill>
        <p:spPr>
          <a:xfrm>
            <a:off x="7537320" y="5130720"/>
            <a:ext cx="1606680" cy="17272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name to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or mention by name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fy (a sum, time, or pl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hree LED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name all the components of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ame would you give to a course promoting active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ntify the parts of the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name of the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Name.jpg"/>
          <p:cNvPicPr/>
          <p:nvPr/>
        </p:nvPicPr>
        <p:blipFill>
          <a:blip r:embed="rId1"/>
          <a:stretch/>
        </p:blipFill>
        <p:spPr>
          <a:xfrm>
            <a:off x="6659640" y="4479840"/>
            <a:ext cx="2222280" cy="2378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range in or allocate to gr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mark scheme to grade you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mark scheme we could use to grade government behaviour in relation to democratic 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grade the impact of the Kyoto Protoc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policies have been effective, which not 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you grade the newspapers according to our ‘Tabloid Scandal’ sca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ms-grade"/>
          <p:cNvPicPr/>
          <p:nvPr/>
        </p:nvPicPr>
        <p:blipFill>
          <a:blip r:embed="rId1"/>
          <a:stretch/>
        </p:blipFill>
        <p:spPr>
          <a:xfrm>
            <a:off x="7020000" y="5013360"/>
            <a:ext cx="2016000" cy="17334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k at clos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really being said in this speech, ‘between the line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key themes run through the UDH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oes the language of the American constitution reflect its perceived cont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political messages and positions are underlying the perform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pect the picture for clues to its ori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insp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479736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 an opinion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list of criteria on which we should judge the presentations. Indicate priority and rat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dge the value of OFCOM to the British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your judgement regarding the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judge which of these ideas will be of greater benefit to the commun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effective are ASB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ju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s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prove to be right or reason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efend your position on capital punish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evidence to justify your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re to justify these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es the barrister attempt to justify the defendant’s ac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justification is there for accepting a certain level of unemployment as ‘inevitabl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33justify"/>
          <p:cNvPicPr/>
          <p:nvPr/>
        </p:nvPicPr>
        <p:blipFill>
          <a:blip r:embed="rId1"/>
          <a:stretch/>
        </p:blipFill>
        <p:spPr>
          <a:xfrm>
            <a:off x="6443640" y="5172120"/>
            <a:ext cx="2590920" cy="16858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(someone or something) a rank within a grading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nk the arguments in order of effic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ank the pictures according to the level of b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order these images to fit the grading syst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use the assessment criteria to put the performances in ord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ce the policy suggestions according to what extent they solve the problem we highligh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rank_7"/>
          <p:cNvPicPr/>
          <p:nvPr/>
        </p:nvPicPr>
        <p:blipFill>
          <a:blip r:embed="rId1"/>
          <a:stretch/>
        </p:blipFill>
        <p:spPr>
          <a:xfrm>
            <a:off x="7559640" y="5273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a standard or value to (something) according to a particular sc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e a scale which could be used to rate the effectiveness of council 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rate your performance in the assess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e these crimes in order of severity (by a scale, or implicitly through personal morality sc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ate the proposals based on our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 the sustainable development plans rate in relation to the requirements of Local Agenda 2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Thumbs_Dow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37440" y="5880240"/>
            <a:ext cx="1006560" cy="977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Thumbs_Dow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9440" y="3573360"/>
            <a:ext cx="1114560" cy="1190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Thumbs_Dow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12240" y="4797360"/>
            <a:ext cx="1031760" cy="10699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ry out or write a review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iew or inspect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ew your work and make the changes that will take it to the next gr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duce a literature revi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a synopsis of the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conclusions about the document have you come 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are your findings having reviewed the fil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red"/>
          <p:cNvPicPr/>
          <p:nvPr/>
        </p:nvPicPr>
        <p:blipFill>
          <a:blip r:embed="rId1"/>
          <a:stretch/>
        </p:blipFill>
        <p:spPr>
          <a:xfrm>
            <a:off x="7020000" y="472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 or determine the value of; assign a value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value of free trade to developing countr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etermine the value of the criminal’s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effect has government policy had on unemploy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was this a valuable learning experie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value would you assign to toleranc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Value%20Quotes"/>
          <p:cNvPicPr/>
          <p:nvPr/>
        </p:nvPicPr>
        <p:blipFill>
          <a:blip r:embed="rId1"/>
          <a:stretch/>
        </p:blipFill>
        <p:spPr>
          <a:xfrm>
            <a:off x="6804000" y="4581360"/>
            <a:ext cx="2143080" cy="21369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250920" y="1025640"/>
          <a:ext cx="8893080" cy="5832360"/>
        </p:xfrm>
        <a:graphic>
          <a:graphicData uri="http://schemas.openxmlformats.org/drawingml/2006/table">
            <a:tbl>
              <a:tblPr/>
              <a:tblGrid>
                <a:gridCol w="2435040"/>
                <a:gridCol w="1992240"/>
                <a:gridCol w="1928880"/>
                <a:gridCol w="2536920"/>
              </a:tblGrid>
              <a:tr h="426960">
                <a:tc>
                  <a:txBody>
                    <a:bodyPr lIns="45720" rIns="45720" tIns="2268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5400"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e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ed bibl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galle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pri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Cover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hur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letin bo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 or 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g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narrativ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c Stri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pro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word puzzle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tic monologu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i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Lo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y ta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tre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ss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desig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ting c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ustrated sto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ed dia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scal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to the edito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 artic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with legen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sculpture Mono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 exhibi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al composi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 repo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phle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 with instructions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diction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cast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e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Point Present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Lis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5" name="Text Box 18">
            <a:hlinkClick r:id="rId1" action="ppaction://hlinksldjump"/>
          </p:cNvPr>
          <p:cNvSpPr/>
          <p:nvPr/>
        </p:nvSpPr>
        <p:spPr>
          <a:xfrm>
            <a:off x="7885080" y="609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187280" y="6453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Example Product list taken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s1.mcm.edu/~awyatt/csc3315/bloom.htm</a:t>
            </a:r>
            <a:r>
              <a:rPr b="0" lang="en-US" sz="1800" spc="-1" strike="noStrike">
                <a:solidFill>
                  <a:srgbClr val="558ed5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9" descr="title-products"/>
          <p:cNvPicPr/>
          <p:nvPr/>
        </p:nvPicPr>
        <p:blipFill>
          <a:blip r:embed="rId3"/>
          <a:srcRect l="0" t="0" r="0" b="8539"/>
          <a:stretch/>
        </p:blipFill>
        <p:spPr>
          <a:xfrm>
            <a:off x="6696000" y="115920"/>
            <a:ext cx="2448000" cy="1336680"/>
          </a:xfrm>
          <a:prstGeom prst="rect">
            <a:avLst/>
          </a:prstGeom>
          <a:ln w="0">
            <a:noFill/>
          </a:ln>
        </p:spPr>
      </p:pic>
      <p:sp>
        <p:nvSpPr>
          <p:cNvPr id="568" name="WordArt 70"/>
          <p:cNvSpPr txBox="1"/>
          <p:nvPr/>
        </p:nvSpPr>
        <p:spPr>
          <a:xfrm>
            <a:off x="179280" y="115920"/>
            <a:ext cx="619128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amples of less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duc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50920" y="692280"/>
            <a:ext cx="87138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Knowledg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list of the main events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timelin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cts cha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ist of any pieces of information you can remember.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the .... i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hart showing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n acrostic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ite a po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rcRect l="5764" t="0" r="7091" b="0"/>
          <a:stretch/>
        </p:blipFill>
        <p:spPr>
          <a:xfrm>
            <a:off x="6443640" y="260280"/>
            <a:ext cx="25178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7093080" y="4581360"/>
            <a:ext cx="1511280" cy="857520"/>
            <a:chOff x="7093080" y="4581360"/>
            <a:chExt cx="1511280" cy="857520"/>
          </a:xfrm>
        </p:grpSpPr>
        <p:sp>
          <p:nvSpPr>
            <p:cNvPr id="573" name="Oval 3">
              <a:hlinkClick r:id="rId3" action="ppaction://hlinksldjump"/>
            </p:cNvPr>
            <p:cNvSpPr/>
            <p:nvPr/>
          </p:nvSpPr>
          <p:spPr>
            <a:xfrm>
              <a:off x="7380360" y="4581360"/>
              <a:ext cx="928440" cy="85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93080" y="4653000"/>
              <a:ext cx="1511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ck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34:34Z</dcterms:created>
  <dc:creator>Mike Gershon</dc:creator>
  <dc:description/>
  <dc:language>en-US</dc:language>
  <cp:lastModifiedBy>Shore</cp:lastModifiedBy>
  <dcterms:modified xsi:type="dcterms:W3CDTF">2009-08-25T03:28:35Z</dcterms:modified>
  <cp:revision>75</cp:revision>
  <dc:subject/>
  <dc:title>Knowledge</dc:title>
</cp:coreProperties>
</file>